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applause.wav" ContentType="audio/x-wav"/>
  <Override PartName="/ppt/media/image2.png" ContentType="image/png"/>
  <Override PartName="/ppt/media/image3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D625-895B-467C-A0E2-E1F0B0A3A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65E2-C852-4313-8FF8-FE8F0F9C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89C9-E0BF-4360-B62B-2D45323FC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08CF-371D-4516-A18B-7B89A0F0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00D1-214F-4AC1-8037-581B8713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257D-419A-48A4-919E-FE9D29A6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9625-F4EF-48B7-8779-F02D12F6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6DCA-8953-4E97-98F6-7E95C41D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A99D-952B-4C1C-B598-8DD6FDFA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3065-6A68-4F4F-B581-B2B1AAD6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FDBD-D24A-43D6-BFBD-A135F087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809B-5E06-40DF-A1B4-DF817F9A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F4D5-E6D4-47C8-B557-181B0C65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466C-26E7-4197-A819-A32EA3E4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C0D0-4D7D-4898-8F5C-48E2E72D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DD8D-2F1D-4CC8-B7DF-EA2C313B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397152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8806-0ED5-47A6-8C8F-45AFFCD9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84D8-04A2-4696-A9CE-C40E58F3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871D-E09C-4673-98F6-B6490545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5DF0-2E7C-4CEC-BC23-5005BFE6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D2F2-5CE2-4622-A6C1-CA1E5727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B1C5-CDD1-4A9D-95C9-2463DE48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7152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66C9-2D86-4538-AFCD-E18179D1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7152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DD9B-D711-49DD-B492-BE52829B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594324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5943240"/>
            <a:ext cx="2895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5943240"/>
            <a:ext cx="1905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B724-B579-49DC-B374-E5AAE037B014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019560"/>
            <a:ext cx="19051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019560"/>
            <a:ext cx="19051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57A4-358A-4103-B773-EAB00230989F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microsoft.com/net" TargetMode="External"/><Relationship Id="rId2" Type="http://schemas.openxmlformats.org/officeDocument/2006/relationships/hyperlink" Target="http://www.microsoft.com/net" TargetMode="External"/><Relationship Id="rId3" Type="http://schemas.openxmlformats.org/officeDocument/2006/relationships/hyperlink" Target="http://www.microsoft.com/net" TargetMode="External"/><Relationship Id="rId4" Type="http://schemas.openxmlformats.org/officeDocument/2006/relationships/hyperlink" Target="http://www.microsoft.com/brasil/net" TargetMode="External"/><Relationship Id="rId5" Type="http://schemas.openxmlformats.org/officeDocument/2006/relationships/hyperlink" Target="http://www.microsoft.com/brasil/net" TargetMode="External"/><Relationship Id="rId6" Type="http://schemas.openxmlformats.org/officeDocument/2006/relationships/hyperlink" Target="http://www.microsoft.com/brasil/net" TargetMode="External"/><Relationship Id="rId7" Type="http://schemas.openxmlformats.org/officeDocument/2006/relationships/hyperlink" Target="http://www.microsoft.com/brasil/net" TargetMode="External"/><Relationship Id="rId8" Type="http://schemas.openxmlformats.org/officeDocument/2006/relationships/hyperlink" Target="http://www.microsoft.com/brasil/net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9520"/>
            <a:ext cx="84582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A Inovadora Plataforma da Microsoft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bill_gates1" descr=""/>
          <p:cNvPicPr/>
          <p:nvPr/>
        </p:nvPicPr>
        <p:blipFill>
          <a:blip r:embed="rId1"/>
          <a:stretch/>
        </p:blipFill>
        <p:spPr>
          <a:xfrm>
            <a:off x="8153280" y="3352680"/>
            <a:ext cx="85752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28600" y="243828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Times New Roman"/>
              </a:rPr>
              <a:t>Ambiente de Desenvolvimento .N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2480" y="4952880"/>
            <a:ext cx="32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Alberto Cáceres Alvare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Néstor Daniel Heredia Vi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Rodrigo Guimarães de Araú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82280" y="6248520"/>
            <a:ext cx="42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Engenharia  de Software – UFMS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applaus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Linguagens 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 atual ferramenta de programação .NET é o Visual Studio .NET. O produto incorpora as linguagens Visual Basic, Visual C++ e Visual C#, todas com sobrenome .NET. As linguagens tradicionais  sofreram ajustes para a plataforma .NET, enquanto o C# começa do zer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228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7fa58"/>
                </a:solidFill>
                <a:latin typeface="Times New Roman"/>
              </a:rPr>
              <a:t>.NET Visto Pelo Program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4DEF-2123-4EE4-8444-C4F345F370BF}" type="slidenum">
              <a:t>10</a:t>
            </a:fld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Ambiente CL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 .NET é baseado em um ambiente CLR(Common Language RunTime) que gerencia a execução de código escrito em qualquer linguagem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O CLR gera o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managed code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, ou seja, código escrito para rodar com o runtime do VS.NET. No VS.NET, somente o C++ produz programas que não dependem do runtime, o chamado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unmanaged cod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228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7fa58"/>
                </a:solidFill>
                <a:latin typeface="Times New Roman"/>
              </a:rPr>
              <a:t>.NET Visto Pelo Program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92A5-2DAE-4612-920A-1BDBF4764349}" type="slidenum">
              <a:t>11</a:t>
            </a:fld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Compilação 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3504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 compilação do código .NET consiste em um  processo de duas etapas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228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7fa58"/>
                </a:solidFill>
                <a:latin typeface="Times New Roman"/>
              </a:rPr>
              <a:t>.NET Visto Pelo Program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E5C8-4362-4B39-BCF8-629A86C1304E}" type="slidenum">
              <a:t>12</a:t>
            </a:fld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Compilação 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1. O código de nível superior é convertido em uma linguagem genérica chamada de MSIL(Microsoft Intermediate Language), semelhante ao código da máquina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228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7fa58"/>
                </a:solidFill>
                <a:latin typeface="Times New Roman"/>
              </a:rPr>
              <a:t>.NET Visto Pelo Program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74FD-E28C-40F4-B0B3-57ED4B7CA742}" type="slidenum">
              <a:t>13</a:t>
            </a:fld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Compilação 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2. Durante o tempo de execução, na primeira chamada para o código MSIL, o CLR .NET converte o MSIL em um código nativo e o executa como tal. Uma vez convertido, o código nativo é usado até que o programa termine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228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7fa58"/>
                </a:solidFill>
                <a:latin typeface="Times New Roman"/>
              </a:rPr>
              <a:t>.NET Visto Pelo Program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4244-F518-4C5A-B586-356D321F876D}" type="slidenum">
              <a:t>14</a:t>
            </a:fld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Compilação 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809880"/>
            <a:ext cx="1981080" cy="131364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ódigo – Fon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Visual Basic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Visual C++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obol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4495680"/>
            <a:ext cx="121932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2819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Ferramenta de Desenvolvimento, como o Visual Studio .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3809880"/>
            <a:ext cx="1981080" cy="131364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Microsoft Intermediate Language (MSI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4495680"/>
            <a:ext cx="121896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3809880"/>
            <a:ext cx="1981440" cy="131364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Código específico para a platafo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81120" y="3048120"/>
            <a:ext cx="25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Compilador Just-In-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2880" y="228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7fa58"/>
                </a:solidFill>
                <a:latin typeface="Times New Roman"/>
              </a:rPr>
              <a:t>.NET Visto Pelo Program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D89A-7534-4833-90DB-510F0BA1A7E6}" type="slidenum">
              <a:t>15</a:t>
            </a:fld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.NET Framewor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É o modelo da plataforma .NET para construir, instalar e rodar qualquer aplicação, no desktop ou na internet. Para executar um programa .NET é preciso ter o framework instalado; caso seja uma aplicação web o framework fica instalado no servido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228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7fa58"/>
                </a:solidFill>
                <a:latin typeface="Times New Roman"/>
              </a:rPr>
              <a:t>.NET Visto Pelo Program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6F96-88ED-4B3C-932D-5F85955BBF1A}" type="slidenum">
              <a:t>16</a:t>
            </a:fld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.NET Framewor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ropicia gerenciamento de memória automático via coleta de lixo (garbage collection)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uporta gerenciamento de versões padronizado e explícito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stende a riqueza de recursos da programação orientada a objetos para todas as linguagens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952880" y="228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7fa58"/>
                </a:solidFill>
                <a:latin typeface="Times New Roman"/>
              </a:rPr>
              <a:t>.NET Visto Pelo Program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8C92-22A6-44A6-879B-B3456FBF994F}" type="slidenum">
              <a:t>17</a:t>
            </a:fld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.NET Framewor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Organiza a funcionalidade do sistema em um espaço de nomes hierárquic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uporta proteção de códig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ropicia interação transparente com o COM, seja cliente ou servidor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28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7fa58"/>
                </a:solidFill>
                <a:latin typeface="Times New Roman"/>
              </a:rPr>
              <a:t>.NET Visto Pelo Program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F53B-F418-4906-BC75-7DAC9D948C0C}" type="slidenum">
              <a:t>18</a:t>
            </a:fld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Web Servi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50760" bIns="5076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Microsoft 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 iniciativa .NET é a visão da Microsoft de um mundo, onde o software se transforma em serviços, na verdade pequenos componentes que podem ser usados por qualquer aplicação.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Developers’ Magazi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26F9-7609-4D25-B597-FF88763A5426}" type="slidenum">
              <a:t>2</a:t>
            </a:fld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Web Servi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ode-se entender web service como uma porção de código ou função localizada num servidor web e que pode ser utilizada por uma aplicação qualquer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7EE8-FFFE-424A-B278-0ADC3553F962}" type="slidenum">
              <a:t>20</a:t>
            </a:fld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Web Servi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Os Web services têm por objetivo automatizar operações de Internet que normalmente são realizadas por seres humano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Uma das características centrais dos web services é serem baseados em padrões aberto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9DF2-0B94-40A1-8F55-C7404BAC198D}" type="slidenum">
              <a:t>21</a:t>
            </a:fld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Padrões 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676520" y="3809520"/>
            <a:ext cx="64008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Linguagem e Protoco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781680" y="4546440"/>
          <a:ext cx="2362320" cy="23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4546440"/>
                    <a:ext cx="2362320" cy="23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Linguagem XM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228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7fa58"/>
                </a:solidFill>
                <a:latin typeface="Times New Roman"/>
              </a:rPr>
              <a:t>Padrões .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057400"/>
            <a:ext cx="6873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É o grande habilitador do modelo de Web services, uma linguagem extensível de descrição de informaçõ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ados expressos com XML são facilmente entendidos e manipulados por computadores, linguagens e dispositivos das mais variadas origens, criando uma facilidade sem precedentes na troca de informações entre empresa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9A4B-E721-4040-9FE3-F4F52428A063}" type="slidenum">
              <a:t>23</a:t>
            </a:fld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Protocolo SOA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otocolo simples de acesso a objetos. O SOAP é um padrão aberto, baseado em XML, criado por Microsoft, Ariba e IBM para padronizar a transferência de dados entre aplicações.  Pode ser usado em combinação com vários outros protocolos comuns da internet, como HTTP e SMTP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228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7fa58"/>
                </a:solidFill>
                <a:latin typeface="Times New Roman"/>
              </a:rPr>
              <a:t>Padrões .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2211-6BAE-4551-B123-1E50B599440F}" type="slidenum">
              <a:t>24</a:t>
            </a:fld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Protocolo UDD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razendo a facilidade do modelo Web para o mundo das transações entre sistemas, o protocolo permite que ambientes de desenvolvimento e processamento compatíveis com Web Services descubram fornecedores de dados e serviços usando um mecanismo muito similar ao dos engenheiros de busca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00600" y="228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7fa58"/>
                </a:solidFill>
                <a:latin typeface="Times New Roman"/>
              </a:rPr>
              <a:t>Padrões .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8DCE-9FBA-43FC-8CE9-F217BC123174}" type="slidenum">
              <a:t>25</a:t>
            </a:fld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Exemplo de Web servic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nsidere uma empresa que deseja cadastrar um novo cliente para efetuar uma venda. Depois de finalizar o cadastro, o departamento financeiro por meio de uma outra aplicação específica ou mesmo do telefone, consulta um serviço de crédito para determinar se o cliente possui bons antecedentes. Não seria mais fácil se a própria aplicação de cadastro de clientes fizesse a consulta automaticamente ao serviço de crédito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B98-89B7-4BA1-AD33-FE84E63A23CD}" type="slidenum">
              <a:t>26</a:t>
            </a:fld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Adicionai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bcbcb"/>
                </a:solidFill>
                <a:latin typeface="Arial"/>
              </a:rPr>
              <a:t>Modelo Peer-to-peer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É um modelo de comunicação no qual os meios utilizados - desktops, servidores e outros dispositivos inteligentes - comunicam-se diretamente uns com os outros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839E-0A07-44F3-A85C-DC988C4400A1}" type="slidenum">
              <a:t>27</a:t>
            </a:fld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Platt, David S. , Introducing Microsoft . 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.NET Magaz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Developers’Magaz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www.</a:t>
            </a:r>
            <a:r>
              <a:rPr b="1" lang="pt-BR" sz="32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microsoft</a:t>
            </a:r>
            <a:r>
              <a:rPr b="1" lang="pt-BR" sz="3200" spc="-1" strike="noStrike" u="sng">
                <a:solidFill>
                  <a:srgbClr val="ff3300"/>
                </a:solidFill>
                <a:uFillTx/>
                <a:latin typeface="Arial"/>
                <a:hlinkClick r:id="rId3"/>
              </a:rPr>
              <a:t>.com/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ff3300"/>
                </a:solidFill>
                <a:uFillTx/>
                <a:latin typeface="Arial"/>
                <a:hlinkClick r:id="rId4"/>
              </a:rPr>
              <a:t>www.</a:t>
            </a:r>
            <a:r>
              <a:rPr b="1" lang="pt-BR" sz="3200" spc="-1" strike="noStrike" u="sng">
                <a:solidFill>
                  <a:srgbClr val="ff3300"/>
                </a:solidFill>
                <a:uFillTx/>
                <a:latin typeface="Arial"/>
                <a:hlinkClick r:id="rId5"/>
              </a:rPr>
              <a:t>microsoft</a:t>
            </a:r>
            <a:r>
              <a:rPr b="1" lang="pt-BR" sz="3200" spc="-1" strike="noStrike" u="sng">
                <a:solidFill>
                  <a:srgbClr val="ff3300"/>
                </a:solidFill>
                <a:uFillTx/>
                <a:latin typeface="Arial"/>
                <a:hlinkClick r:id="rId6"/>
              </a:rPr>
              <a:t>.com/</a:t>
            </a:r>
            <a:r>
              <a:rPr b="1" lang="pt-BR" sz="3200" spc="-1" strike="noStrike" u="sng">
                <a:solidFill>
                  <a:srgbClr val="ff3300"/>
                </a:solidFill>
                <a:uFillTx/>
                <a:latin typeface="Arial"/>
                <a:hlinkClick r:id="rId7"/>
              </a:rPr>
              <a:t>brasil</a:t>
            </a:r>
            <a:r>
              <a:rPr b="1" lang="pt-BR" sz="3200" spc="-1" strike="noStrike" u="sng">
                <a:solidFill>
                  <a:srgbClr val="ff3300"/>
                </a:solidFill>
                <a:uFillTx/>
                <a:latin typeface="Arial"/>
                <a:hlinkClick r:id="rId8"/>
              </a:rPr>
              <a:t>/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9761-1D93-443D-81BA-96C3251C6B45}" type="slidenum">
              <a:t>28</a:t>
            </a:fld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Objetivo .NET Segundo Microsof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a nova plataforma .NET a Internet deixará de ser um emaranhado de sites isolados. Ela será um grande conjunto de sistemas interagindo e trabalhando a favor do usuário. De telefones celulares a controles de automóveis, todos os dispositivos irão compartilhar uma plataforma única. Estamos nos aproximando da era de uma rede global integrada. Estamos entrando na era .NET.</a:t>
            </a:r>
            <a:r>
              <a:rPr b="1" lang="pt-BR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43F3-5138-476B-9D0D-45B8BFEE84B0}" type="slidenum">
              <a:t>3</a:t>
            </a:fld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Exemplo de Uso de 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No caso de um atraso no seu vôo, você pode ser avisado pelo rádio do seu carro, caso esteja no trânsito; se estiver em casa, o aviso chega pela TV interativa ou pelo seu computador no trabalho; e se estiver passeando no shopping, o celular comunicará sobre o atraso. A plataforma .NET chega para tornar realidade aplicações como essa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7CFF-893E-4341-977D-358AAE482A6D}" type="slidenum">
              <a:t>4</a:t>
            </a:fld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Desafios da Plataforma 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1. Atender às novas demandas e aproveitar as oportunidades que o contínuo avanço da tecnologia, e o incrível aumento das opções de conectividade ao longo da última década trouxeram, sem deixar de lado as atribuições tradicionais de 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5C2E-2DD3-4C9C-A692-6EFEE2CADB97}" type="slidenum">
              <a:t>5</a:t>
            </a:fld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Desafios da Plataforma 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2. Fazer com que a etapa de integração entre sistemas ou sites de Internet deixe de ser uma fase acessória e passe a ser uma etapa íntegra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3.Desenvolver um sistema de três camadas funcional, ou seja, tornar os modelos de objetos e mensagens compatíveis entre si (base da comunicação entre as camadas dos sistemas)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5A1C-0C89-43BD-8A53-E937D2FDDFAC}" type="slidenum">
              <a:t>6</a:t>
            </a:fld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Sistema de Três Camada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2133720"/>
            <a:ext cx="515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lientes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- são os PCs, laptops, workstations, telefones celulares, handheld computers, Tablet PCs, games e outros dispositivos inteligentes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42900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Arial"/>
              </a:rPr>
              <a:t>Web Services – regras de negócio e transaçõ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Arial"/>
              </a:rPr>
              <a:t>(são componentes individuais que têm um URL) e uma interface em XM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4800600"/>
            <a:ext cx="5333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Servidores -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formam a infra-estrutura Microsoft .NET para disseminar, gerenciar e orquestrar serviços XML. oferecem às empresas a agilidade que elas precisam para integrar seus sistemas, aplicações e parceiros através de serviços XML, e a flexibilidade de adaptar-se às mudanças exigidas pelo mercad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2286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e7fa58"/>
                </a:solidFill>
                <a:latin typeface="Times New Roman"/>
              </a:rPr>
              <a:t>Desafios da Plataforma .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3camadas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316080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F16E-0AE6-4FCF-9F34-37694A416C07}" type="slidenum">
              <a:t>7</a:t>
            </a:fld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.NET Visto Pelo Programado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276720" y="2514600"/>
          <a:ext cx="3047760" cy="29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514600"/>
                    <a:ext cx="3047760" cy="29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bcbcb"/>
                </a:solidFill>
                <a:latin typeface="Times New Roman"/>
              </a:rPr>
              <a:t>Visual Studio .N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5" name="Formulário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crosoft .NE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F3EE-C600-44D9-AE21-A6EF1E42B628}" type="slidenum">
              <a:t>9</a:t>
            </a:fld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éstor Daniel</cp:lastModifiedBy>
  <dcterms:modified xsi:type="dcterms:W3CDTF">2002-06-20T04:16:45Z</dcterms:modified>
  <cp:revision>31</cp:revision>
  <dc:subject/>
  <dc:title>Apresentação do PowerPoint</dc:title>
</cp:coreProperties>
</file>